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4A61-68CA-4D03-A273-6E77736F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B54-3806-400D-968C-ED4CF4C6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13D-EFB7-4DDC-AB2C-6C45F7A9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965-FD82-4238-825B-FCE76EDC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B2BD-C944-436D-BE13-CF970A16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6386-440E-435B-B44C-A0672296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7300-78A1-44AC-BD28-C8743E3A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CD9-1E90-4E80-9520-C80E6FCC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A66E-D826-460E-8A8E-EFCEFB46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FF3-BFE5-4340-91CD-91604DB6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1E7-ECA0-4094-8101-9045E95A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044-13BD-45D0-A81E-B2A2C023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B1A8-B812-4E3B-893F-93ED29176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0"/>
            <a:ext cx="4267080" cy="7077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genda, Sept.  16 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No Homework`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495680" y="2209680"/>
            <a:ext cx="434340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the people of the United States, in order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Form a more perfect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establish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insure domestic tranqu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provide for the common def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4952880" y="51814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nly the gov. has the power to declare war on anothe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congressforkids.net/images/stroke_constitution.gif"/>
          <p:cNvPicPr/>
          <p:nvPr/>
        </p:nvPicPr>
        <p:blipFill>
          <a:blip r:embed="rId2"/>
          <a:srcRect l="77244" t="0" r="0" b="-5252"/>
          <a:stretch/>
        </p:blipFill>
        <p:spPr>
          <a:xfrm>
            <a:off x="5562720" y="-23760"/>
            <a:ext cx="1904760" cy="2309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congressforkids.net/images/writconstitution.jpg"/>
          <p:cNvPicPr/>
          <p:nvPr/>
        </p:nvPicPr>
        <p:blipFill>
          <a:blip r:embed="rId3"/>
          <a:stretch/>
        </p:blipFill>
        <p:spPr>
          <a:xfrm>
            <a:off x="0" y="4267080"/>
            <a:ext cx="4317840" cy="25909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6"/>
          <p:cNvSpPr/>
          <p:nvPr/>
        </p:nvSpPr>
        <p:spPr>
          <a:xfrm>
            <a:off x="4876920" y="41911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eans: the gov. has the power to keep the pe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9"/>
          <p:cNvSpPr/>
          <p:nvPr/>
        </p:nvSpPr>
        <p:spPr>
          <a:xfrm>
            <a:off x="0" y="1676520"/>
            <a:ext cx="4267080" cy="177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 9-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Bring up your focus document; then,  minimize and bring up georamsey wiki and wait for instru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105520" y="0"/>
            <a:ext cx="4343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the people of the United States, in order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Form a more perfect Union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5105520" y="1171440"/>
            <a:ext cx="373356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establish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insure domestic tranqu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for the common def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Promote the general welf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5" descr="constitution_signing"/>
          <p:cNvPicPr/>
          <p:nvPr/>
        </p:nvPicPr>
        <p:blipFill>
          <a:blip r:embed="rId2"/>
          <a:srcRect l="31190" t="10631" r="0" b="10631"/>
          <a:stretch/>
        </p:blipFill>
        <p:spPr>
          <a:xfrm>
            <a:off x="0" y="0"/>
            <a:ext cx="5143680" cy="3429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http://www.mrdonn.org/geo_map_usa_blank.gif"/>
          <p:cNvPicPr/>
          <p:nvPr/>
        </p:nvPicPr>
        <p:blipFill>
          <a:blip r:embed="rId3"/>
          <a:stretch/>
        </p:blipFill>
        <p:spPr>
          <a:xfrm>
            <a:off x="380880" y="3809880"/>
            <a:ext cx="4267440" cy="27241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5"/>
          <p:cNvSpPr/>
          <p:nvPr/>
        </p:nvSpPr>
        <p:spPr>
          <a:xfrm>
            <a:off x="5334120" y="342900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and secure the blessings of liberty to ourselves and our poste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5181480" y="457200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do ordain and establish—this Constitution for the United States of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143160" y="3344760"/>
          <a:ext cx="2857680" cy="168480"/>
        </p:xfrm>
        <a:graphic>
          <a:graphicData uri="http://schemas.openxmlformats.org/drawingml/2006/table">
            <a:tbl>
              <a:tblPr/>
              <a:tblGrid>
                <a:gridCol w="2857680"/>
              </a:tblGrid>
              <a:tr h="168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4"/>
          <p:cNvSpPr/>
          <p:nvPr/>
        </p:nvSpPr>
        <p:spPr>
          <a:xfrm>
            <a:off x="304920" y="45360"/>
            <a:ext cx="9144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  <a:ea typeface="Calibri"/>
              </a:rPr>
              <a:t>The Declaration of Independence 17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Unanimous Declaration of the Thirteen United States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249120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e hold these _________ to be ______________, that all men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d ____________, that they are endowed by the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__ with certain unalienable ___________, that am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se are ________, ___________ and the pursui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_.  That to secure these rights, 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re instituted among men, deriving their just powers from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 of the gover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l_fi" descr="http://2.bp.blogspot.com/-YZMvN7u7eps/ThH9xuvg94I/AAAAAAAAGYk/9snIp0NDoE8/s400/The+Founding+Fathers+are+depicted+in+the+painting+Declaration+of+Independence.jpeg"/>
          <p:cNvPicPr/>
          <p:nvPr/>
        </p:nvPicPr>
        <p:blipFill>
          <a:blip r:embed="rId2"/>
          <a:stretch/>
        </p:blipFill>
        <p:spPr>
          <a:xfrm>
            <a:off x="3429000" y="685800"/>
            <a:ext cx="2247840" cy="16858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0"/>
          <p:cNvSpPr/>
          <p:nvPr/>
        </p:nvSpPr>
        <p:spPr>
          <a:xfrm>
            <a:off x="198108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u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4267080" y="2438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ev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1295280" y="3048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q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457200" y="36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e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5791320" y="3581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152388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304812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b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22860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app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640080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9"/>
          <p:cNvSpPr/>
          <p:nvPr/>
        </p:nvSpPr>
        <p:spPr>
          <a:xfrm>
            <a:off x="22860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7:51:36Z</dcterms:created>
  <dc:creator>Selena Ramsey</dc:creator>
  <dc:description/>
  <dc:language>en-US</dc:language>
  <cp:lastModifiedBy>poweruser</cp:lastModifiedBy>
  <dcterms:modified xsi:type="dcterms:W3CDTF">2011-09-19T12:45:26Z</dcterms:modified>
  <cp:revision>58</cp:revision>
  <dc:subject/>
  <dc:title>Agenda Sept. 6, 2005</dc:title>
</cp:coreProperties>
</file>